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9EC3-F20C-49A1-BA31-522A89E39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114D-44AB-4A59-837C-A4B608554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5E8C-BA6A-43CF-9FE0-DA5684047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1BCD-F681-4718-8800-BE39CA425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F3B99-9DF4-4799-8482-9F177D884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F139A-DED0-43CC-ABF5-B3912218E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2A297-0905-440E-9712-BCAADB3FA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B10F0-F582-4C50-B571-4AEA554B1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217A1-3281-4F1D-BBB2-4812AB78E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EA30F-8C35-44A4-8AEA-7A1210431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53B02-87DC-42E4-9E53-672C7EC0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6131-5A3C-4505-8255-D71FD308B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88935-5C19-4C13-9DBD-865735BC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7A2A1-9482-4AC3-9D05-810FC518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045EA-416C-40C0-B6BE-99635FC97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B69F4-B704-4F2D-9834-F75BC9354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892B0-D3FF-4AE6-8A36-53A2811EE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255F2-6111-4F46-8F8E-4B3AEE0AE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974E6-DD8D-435A-970B-E57129E41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9D8C7-1FA7-4E44-B96E-6538085DE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FDFB0-4EA5-403F-94BF-4A07AF21A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71832-DA30-413C-90AC-7A6342E31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292C-2DCC-46E9-A29F-A06D461DA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A3E0E-02D3-4F80-B7C8-289F7B64E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279CB-DFC7-4C5B-89B6-D181EA19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777EB-230F-4D10-A322-60F103D4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3A0BD-4151-4655-82F0-C3D491FA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44F85-2A86-48D9-9319-503FC547F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F9DB9-DED1-4C73-801A-1A81DE4E0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0905B-44AE-4A11-951C-19B445D8A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CF7E9-5F40-4F54-B264-67D85C9DE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E5603-ABD7-4830-90EC-9472E77EA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70703-B117-4AAD-87B7-92837D0B9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6ECA-FD2E-464B-B5F0-E5A50F672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7EA5E-7815-4913-8EAB-DF732E8F4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008D8-3A46-415D-A42C-1AA6B11A2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80B73-F67A-4C53-A31C-033B529FC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F0154-FDD7-430C-9C85-A9D844CB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7E16C-A81B-41FC-AE43-35B841E7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3E90F-0237-4414-A2E9-029EA6B3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3E4B4-72CA-4075-B4C8-C417E64EE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C520C-9900-40CA-B5DA-1BCD3EFA4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B87EB-0EAD-46A0-9843-7B034A8E3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7E444-5D9C-4979-8063-B7566CCA9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05C7-04AC-46B3-9C6A-C5781B04A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560D1-CA10-450A-B144-5C7D05689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E640A-55D8-4B91-9BC7-03395D874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2BC18-5D1E-4D87-9F16-3B273C14D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7912C-F430-4FB2-BDF0-78BE4817A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F1FA3-6E9C-4323-96F3-F525CC7F2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898BB-17BE-4AAB-8BFB-8F35FECC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5B157-EBDF-4274-9E73-E5F9F77F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7A44D-F13B-4153-A482-E70F0AAA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C9DE4-B7D7-4B8C-9DF8-68FAC5263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F8DD9-C02F-453B-A93F-7A6C04F1F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EBE4-3210-4847-B2A9-446F8E210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5440C-1B12-4A20-9B6B-0DC5DC6D1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9ED6-01FC-48B2-8F15-ECBF492D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FF7F-37F7-4053-BD17-A6838670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BA39-3370-4091-88A1-04E39675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4204"/>
            </a:gs>
            <a:gs pos="100000">
              <a:srgbClr val="f5e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629CF-070E-4D11-A9E0-C61D92AFBDDC}" type="datetime">
              <a:rPr b="0" lang="es-ES" sz="1000" spc="-1" strike="noStrike">
                <a:solidFill>
                  <a:srgbClr val="b13f9a"/>
                </a:solidFill>
                <a:latin typeface="Trebuchet MS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AA034-9DC8-43BB-BEB2-4EEE0447BFEA}" type="slidenum">
              <a:rPr b="0" lang="es-E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4204"/>
            </a:gs>
            <a:gs pos="100000">
              <a:srgbClr val="f5e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45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47" name="7 Rectángulo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8" name="7 Rectángulo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0" name="9 Conector recto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985DE-1207-4C28-A4D4-CB747ACD45F4}" type="datetime">
              <a:rPr b="0" lang="es-ES" sz="1000" spc="-1" strike="noStrike">
                <a:solidFill>
                  <a:srgbClr val="ffffff"/>
                </a:solidFill>
                <a:latin typeface="Trebuchet MS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AB27E-BF83-492E-A16B-38E3C9EA518E}" type="slidenum">
              <a:rPr b="0" lang="es-E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4204"/>
            </a:gs>
            <a:gs pos="100000">
              <a:srgbClr val="f5e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3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2365A-4274-43F2-B1AF-614AD8CADEC8}" type="datetime">
              <a:rPr b="0" lang="es-ES" sz="1000" spc="-1" strike="noStrike">
                <a:solidFill>
                  <a:srgbClr val="b13f9a"/>
                </a:solidFill>
                <a:latin typeface="Trebuchet MS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5750F-6A7B-41CF-AA9F-F068FF6CE8AA}" type="slidenum">
              <a:rPr b="0" lang="es-E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4204"/>
            </a:gs>
            <a:gs pos="100000">
              <a:srgbClr val="f5e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37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39" name="7 Rectángulo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9 Rectángulo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EC0CE-5672-4C99-9B9B-85A8193AEB68}" type="datetime">
              <a:rPr b="0" lang="es-ES" sz="1000" spc="-1" strike="noStrike">
                <a:solidFill>
                  <a:srgbClr val="f4e7ed"/>
                </a:solidFill>
                <a:latin typeface="Trebuchet MS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2BA00-0D6B-416D-93A0-45ADFE5F14F7}" type="slidenum">
              <a:rPr b="0" lang="es-E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4204"/>
            </a:gs>
            <a:gs pos="100000">
              <a:srgbClr val="f5e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83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6C1C4-1909-44A2-ADF5-42073D5E9E12}" type="datetime">
              <a:rPr b="0" lang="es-ES" sz="1000" spc="-1" strike="noStrike">
                <a:solidFill>
                  <a:srgbClr val="b13f9a"/>
                </a:solidFill>
                <a:latin typeface="Trebuchet MS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8C1A3-C86E-4DE4-AA89-F23C34F8257E}" type="slidenum">
              <a:rPr b="0" lang="es-E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3 Título" descr=""/>
          <p:cNvPicPr/>
          <p:nvPr/>
        </p:nvPicPr>
        <p:blipFill>
          <a:blip r:embed="rId1"/>
          <a:stretch/>
        </p:blipFill>
        <p:spPr>
          <a:xfrm>
            <a:off x="347760" y="1504800"/>
            <a:ext cx="7454880" cy="13845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7200" y="4723920"/>
            <a:ext cx="723888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2060"/>
                </a:solidFill>
                <a:latin typeface="Adobe Caslon Pro Bold"/>
              </a:rPr>
              <a:t>Miriam Puente García 71449758M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2060"/>
                </a:solidFill>
                <a:latin typeface="Adobe Caslon Pro Bold"/>
              </a:rPr>
              <a:t>Jose Alberto Benítez Andrades 71454586A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2060"/>
                </a:solidFill>
                <a:latin typeface="Adobe Caslon Pro Bold"/>
              </a:rPr>
              <a:t>Ingeniería en Informática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2060"/>
                </a:solidFill>
                <a:latin typeface="Adobe Caslon Pro Bold"/>
              </a:rPr>
              <a:t>Universidad de Leó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1 Título" descr=""/>
          <p:cNvPicPr/>
          <p:nvPr/>
        </p:nvPicPr>
        <p:blipFill>
          <a:blip r:embed="rId1"/>
          <a:stretch/>
        </p:blipFill>
        <p:spPr>
          <a:xfrm>
            <a:off x="450720" y="231840"/>
            <a:ext cx="7255080" cy="5364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609120" y="1294920"/>
            <a:ext cx="72392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Microprocesador básico, 16 instruccion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Cada instrucción 16 bit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6c6c6c"/>
                </a:solidFill>
                <a:latin typeface="Trebuchet MS"/>
              </a:rPr>
              <a:t>4 primeros : Instrucción a ejecutar.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6c6c6c"/>
                </a:solidFill>
                <a:latin typeface="Trebuchet MS"/>
              </a:rPr>
              <a:t>12 restantes: Dirección.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4 Grupos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6c6c6c"/>
                </a:solidFill>
                <a:latin typeface="Trebuchet MS"/>
              </a:rPr>
              <a:t>Aritméticas: ADD, SUB, INC , DEC.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6c6c6c"/>
                </a:solidFill>
                <a:latin typeface="Trebuchet MS"/>
              </a:rPr>
              <a:t>Lógicas: AND , OR, INV, SRR.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6c6c6c"/>
                </a:solidFill>
                <a:latin typeface="Trebuchet MS"/>
              </a:rPr>
              <a:t>Transferencia: LDA, LDB, CLR, SPC.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6c6c6c"/>
                </a:solidFill>
                <a:latin typeface="Trebuchet MS"/>
              </a:rPr>
              <a:t>Saltos: JMP, BRZ, BSC, BSV.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1 Título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7255080" cy="5428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Formado por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rebuchet MS"/>
              </a:rPr>
              <a:t>- Bus de datos de 16 líneas: datos e instrucciones de 16 bit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rebuchet MS"/>
              </a:rPr>
              <a:t>- Bus de direcciones de 14 líneas: mapa de memoria de 4K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rebuchet MS"/>
              </a:rPr>
              <a:t>- Bus de control con las tres líneas básicas: R/W, DIRV y DATV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rebuchet MS"/>
              </a:rPr>
              <a:t>- Entradas de reloj CK, inicialización </a:t>
            </a:r>
            <a:r>
              <a:rPr b="0" i="1" lang="es-ES" sz="2200" spc="-1" strike="noStrike">
                <a:solidFill>
                  <a:srgbClr val="000000"/>
                </a:solidFill>
                <a:latin typeface="Trebuchet MS"/>
              </a:rPr>
              <a:t>(Reset) </a:t>
            </a:r>
            <a:r>
              <a:rPr b="0" lang="es-ES" sz="2200" spc="-1" strike="noStrike">
                <a:solidFill>
                  <a:srgbClr val="000000"/>
                </a:solidFill>
                <a:latin typeface="Trebuchet MS"/>
              </a:rPr>
              <a:t>RS y alimentación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1 Título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7255080" cy="5428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6c6c6c"/>
                </a:solidFill>
                <a:latin typeface="Trebuchet MS"/>
              </a:rPr>
              <a:t>Partes de un microprocesador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  <p:graphicFrame>
        <p:nvGraphicFramePr>
          <p:cNvPr id="234" name="Object 2"/>
          <p:cNvGraphicFramePr/>
          <p:nvPr/>
        </p:nvGraphicFramePr>
        <p:xfrm>
          <a:off x="1371600" y="2308320"/>
          <a:ext cx="5699160" cy="264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5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2308320"/>
                    <a:ext cx="5699160" cy="26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1 Título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7255080" cy="54288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Se divide en 2 partes fundamentalmente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6c6c6c"/>
                </a:solidFill>
                <a:latin typeface="Trebuchet MS"/>
              </a:rPr>
              <a:t>Parte Operativa: está formada por: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4" marL="1279440" indent="-228600">
              <a:spcBef>
                <a:spcPts val="400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400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Registros acumuladores A, B (operandos y resultado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400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Biestables C (acarreo) , N (nulo) y V (desbordamiento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6c6c6c"/>
                </a:solidFill>
                <a:latin typeface="Trebuchet MS"/>
              </a:rPr>
              <a:t>Unidad de Control: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4" marL="1279440" indent="-228600">
              <a:spcBef>
                <a:spcPts val="400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Contador PC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400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Registro de Instrucciones RI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400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CC , controla los ciclos de reloj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1 Título" descr=""/>
          <p:cNvPicPr/>
          <p:nvPr/>
        </p:nvPicPr>
        <p:blipFill>
          <a:blip r:embed="rId1"/>
          <a:stretch/>
        </p:blipFill>
        <p:spPr>
          <a:xfrm>
            <a:off x="285840" y="311040"/>
            <a:ext cx="7419960" cy="5367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Trebuchet MS"/>
              </a:rPr>
              <a:t>Instrucciones aritméticas y lógica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1066680" y="2362320"/>
          <a:ext cx="6248520" cy="3657600"/>
        </p:xfrm>
        <a:graphic>
          <a:graphicData uri="http://schemas.openxmlformats.org/drawingml/2006/table">
            <a:tbl>
              <a:tblPr/>
              <a:tblGrid>
                <a:gridCol w="762120"/>
                <a:gridCol w="914400"/>
                <a:gridCol w="1219320"/>
                <a:gridCol w="335268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8d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ÓDIG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8d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OPER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8d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Indicadores afecta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8d3d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D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db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db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 +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db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Z (nulo),C(acarreo),V (desbordamient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dbce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U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 –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Z (nulo),C(acarreo),V (desbordamient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ee8"/>
                    </a:solidFill>
                  </a:tcPr>
                </a:tc>
              </a:tr>
              <a:tr h="34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db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db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 “y”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db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Z (nul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dbce"/>
                    </a:solidFill>
                  </a:tcPr>
                </a:tc>
              </a:tr>
              <a:tr h="34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O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 “o”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Z (nul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ee8"/>
                    </a:solidFill>
                  </a:tcPr>
                </a:tc>
              </a:tr>
              <a:tr h="34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N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db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db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 +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db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Z (nul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dbce"/>
                    </a:solidFill>
                  </a:tcPr>
                </a:tc>
              </a:tr>
              <a:tr h="34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1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 –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Z (nul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ee8"/>
                    </a:solidFill>
                  </a:tcPr>
                </a:tc>
              </a:tr>
              <a:tr h="34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N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db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db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db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Z (nul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dbce"/>
                    </a:solidFill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R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1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Z (nulo), C(acarre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e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4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4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1 Título" descr=""/>
          <p:cNvPicPr/>
          <p:nvPr/>
        </p:nvPicPr>
        <p:blipFill>
          <a:blip r:embed="rId1"/>
          <a:stretch/>
        </p:blipFill>
        <p:spPr>
          <a:xfrm>
            <a:off x="285840" y="311040"/>
            <a:ext cx="7419960" cy="53676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Trebuchet MS"/>
              </a:rPr>
              <a:t>Instrucciones de transferencia de memoria y de salto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1066680" y="2438280"/>
          <a:ext cx="6248520" cy="3657600"/>
        </p:xfrm>
        <a:graphic>
          <a:graphicData uri="http://schemas.openxmlformats.org/drawingml/2006/table">
            <a:tbl>
              <a:tblPr/>
              <a:tblGrid>
                <a:gridCol w="609840"/>
                <a:gridCol w="838080"/>
                <a:gridCol w="2895480"/>
                <a:gridCol w="190512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ÓDIG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OPER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INDICADO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emoria (DIR)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 afectan a ningu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emoria (DIR)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 afectan a ningu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L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memoria (DIR); 0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B;0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C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 (acarre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P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C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memoria (DI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 afectan a ningu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M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IR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PC (incondicion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 afectan a ningu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R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1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IR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PC si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Z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=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 afectan a ningu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R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IR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PC si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=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 afectan a ningu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R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1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IR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PC si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V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=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 afectan a ningu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4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4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9T13:12:09Z</dcterms:created>
  <dc:creator>Berto</dc:creator>
  <dc:description/>
  <dc:language>en-US</dc:language>
  <cp:lastModifiedBy>Jose Alberto</cp:lastModifiedBy>
  <dcterms:modified xsi:type="dcterms:W3CDTF">2009-05-20T23:13:12Z</dcterms:modified>
  <cp:revision>106</cp:revision>
  <dc:subject/>
  <dc:title>Diapositiva 1</dc:title>
</cp:coreProperties>
</file>