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4EA-4C84-425D-885C-F6298C22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6B5-309A-4A61-A0B1-A20CDA7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215-66C6-4B56-8463-D11091B4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00C-768C-4A06-B11E-AC5A7164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2CDD-1439-4BD8-A685-1A0299FE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B335-925D-4A1B-8DE3-F99996D3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BEDD-EFC6-4CB4-B4B6-0D0D7433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B0AE-4E27-49D9-AC9D-80D63533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8E32-6326-4443-AB60-F7ECE063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1F94-CBB4-4558-8774-69C02DFA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12A7-3D99-4384-A45E-4A33F33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D3B-FF1F-4419-9ED9-BC5AEDE6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C4A8-F9CD-41BA-AFC6-C91EBEE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E3AD-205C-4D1B-8257-18E04C7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F03B-3352-4A97-8238-47401CFF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9391-FD5A-42DA-8538-DF6F965B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93BB-7953-4D25-AF03-9B79DB2B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5E4E-4BD6-449B-AED1-30B3D512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2E5C-82BA-4F26-8247-FBEBD06F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BA3D-5BF9-41AD-B28A-C55C787C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0B7C-B6ED-4847-A8C8-5834AC02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30BB-CDCB-41BF-8223-AA5F700A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A9A-104A-439E-BFAF-EB376377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6968-DF16-4297-BE69-2DE30D49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49C4-6C37-40B2-A07F-8EB720A6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0FD9-9027-48C0-8CDA-44918C9C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96C0-8D67-4FFA-BD87-25B83E8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E9C0-0116-41AB-A9AF-B9D64553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E602-454B-4B57-A072-3A9D1BDD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C583-2A44-42B2-B876-CFF19138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25D5-E9C5-4E92-82EE-4F6C829E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B60F-204D-4983-B587-B48A70EA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1D96-195D-458A-AE2F-FD0131BE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D27-32EA-49D2-A4ED-EF3F44B3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0A82-801B-4683-B850-D62E6D2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DA0F6-89E5-4853-9C3C-5200B1C3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08A0-0C57-46F8-B29A-B715DDF9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DD32-5BA6-476B-BC69-A3DFE497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5625-EDAF-4E7F-88E2-8004E81C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AB8C-0EFE-44C1-82B2-BC73486A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E43E-85F0-4C4E-BFF8-F2ECDEA2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83ED-4AB5-4FE6-B6B0-C1675AB3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EE81-762E-40D3-8A2E-9F68B310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FFDD7-D4DA-41F9-8CC5-FCACC010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DB5-850F-4D2A-BD1B-13037A95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C61D9-3796-4911-829C-8F0C0366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9082-8530-4073-BAD8-1F51CDB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AA96-5194-4461-ABF9-4CC3847E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8D2B-9C07-4C79-9778-B99DA4AF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57D99-2BA5-4BCE-A721-A31783C3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BB95F-865F-4B6B-B135-2CF1E5B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748B-4598-4014-B43E-FE9DF841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89F9F-33F6-4AF1-A959-6A805364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B205F-1707-4EDB-9815-58C05211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D5AAC-DD81-4AE0-9B53-9536451F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0D9-6BCA-49A9-88FD-CFEBCB86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E5AE-C931-4D8A-8DF2-D768DB6B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687-5F18-40AD-A18A-F6E34CB7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04C-5B88-4B23-BC63-7C85193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7CC-F820-4C80-9343-B523F3A2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982A-1B54-4B96-900E-1597A951182C}" type="datetime">
              <a:rPr b="0" lang="es-ES" sz="1000" spc="-1" strike="noStrike">
                <a:solidFill>
                  <a:srgbClr val="b13f9a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5B2A-ED1C-437B-9434-2207F75C0193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7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0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EA98-E7C4-4E22-8AEC-3078F7C0480F}" type="datetime">
              <a:rPr b="0" lang="es-ES" sz="1000" spc="-1" strike="noStrike">
                <a:solidFill>
                  <a:srgbClr val="ffffff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EEA-C15F-4650-84F1-0E4F038C588A}" type="slidenum">
              <a:rPr b="0" lang="es-E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9902-4CFA-44F0-9E97-536AA814DED1}" type="datetime">
              <a:rPr b="0" lang="es-ES" sz="1000" spc="-1" strike="noStrike">
                <a:solidFill>
                  <a:srgbClr val="b13f9a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A529-DAC4-4C85-957A-48535825852D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9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8C8F-BE07-4B21-92B0-C6AAEB1B2EE5}" type="datetime">
              <a:rPr b="0" lang="es-ES" sz="1000" spc="-1" strike="noStrike">
                <a:solidFill>
                  <a:srgbClr val="f4e7ed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C50D-B65B-4592-95F6-1708AA460D33}" type="slidenum">
              <a:rPr b="0" lang="es-E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E019-A41F-4BC8-A3AC-3ECCA24CA9F1}" type="datetime">
              <a:rPr b="0" lang="es-ES" sz="1000" spc="-1" strike="noStrike">
                <a:solidFill>
                  <a:srgbClr val="b13f9a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956-FF26-42B8-B8ED-4C79CDD61E2B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3 Título" descr=""/>
          <p:cNvPicPr/>
          <p:nvPr/>
        </p:nvPicPr>
        <p:blipFill>
          <a:blip r:embed="rId1"/>
          <a:stretch/>
        </p:blipFill>
        <p:spPr>
          <a:xfrm>
            <a:off x="378000" y="1504800"/>
            <a:ext cx="7559640" cy="138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4723920"/>
            <a:ext cx="72388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dobe Caslon Pro Bold"/>
              </a:rPr>
              <a:t>Jose Alberto Benítez Andrad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dobe Caslon Pro Bold"/>
              </a:rPr>
              <a:t>71454586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dobe Caslon Pro Bold"/>
              </a:rPr>
              <a:t>Ingeniería en Informátic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dobe Caslon Pro Bold"/>
              </a:rPr>
              <a:t>Universidad de Le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1 Título" descr=""/>
          <p:cNvPicPr/>
          <p:nvPr/>
        </p:nvPicPr>
        <p:blipFill>
          <a:blip r:embed="rId1"/>
          <a:stretch/>
        </p:blipFill>
        <p:spPr>
          <a:xfrm>
            <a:off x="384120" y="311040"/>
            <a:ext cx="7388280" cy="536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Componentes del Marcador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219320" y="2362320"/>
          <a:ext cx="6095880" cy="3862440"/>
        </p:xfrm>
        <a:graphic>
          <a:graphicData uri="http://schemas.openxmlformats.org/drawingml/2006/table">
            <a:tbl>
              <a:tblPr/>
              <a:tblGrid>
                <a:gridCol w="1974600"/>
                <a:gridCol w="4121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on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b6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b639"/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truction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En qué estado esta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unction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é unidades funcionales usa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 Campos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Bu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Fj,F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Qj:Q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Rj,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gister Results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Unidad funcional y registro desti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384120" y="311040"/>
            <a:ext cx="7388280" cy="536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 algn="just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jemplo: Vamos a suponer los siguientes ciclos de latencias para la etapa 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EX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para las unidades funcionales de coma flotante: la suma son dos ciclos de reloj, la multiplicación son 10 ciclos, y la división son 40 ciclos. Mostrar las tablas de estados cuando un MUL.D y DIV.D están listas para avanzar en el estado de 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Write Result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19320" y="2133720"/>
          <a:ext cx="6095880" cy="1796760"/>
        </p:xfrm>
        <a:graphic>
          <a:graphicData uri="http://schemas.openxmlformats.org/drawingml/2006/table">
            <a:tbl>
              <a:tblPr/>
              <a:tblGrid>
                <a:gridCol w="1447560"/>
                <a:gridCol w="555840"/>
                <a:gridCol w="1001520"/>
                <a:gridCol w="1000080"/>
                <a:gridCol w="2090880"/>
              </a:tblGrid>
              <a:tr h="19260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Estado de las instruc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b63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Instru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Read Operan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Execution comple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Write Resu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LD             F6,34(R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LD             F2,45(R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MUL.D     F0,F2,F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SUB.D      F8,F6,F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DIV.D       F10.FC,F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ADD.D     F6,F8,F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76923c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219320" y="3962520"/>
          <a:ext cx="6095880" cy="1725480"/>
        </p:xfrm>
        <a:graphic>
          <a:graphicData uri="http://schemas.openxmlformats.org/drawingml/2006/table">
            <a:tbl>
              <a:tblPr/>
              <a:tblGrid>
                <a:gridCol w="685800"/>
                <a:gridCol w="761760"/>
                <a:gridCol w="457200"/>
                <a:gridCol w="457200"/>
                <a:gridCol w="457200"/>
                <a:gridCol w="457200"/>
                <a:gridCol w="619200"/>
                <a:gridCol w="552600"/>
                <a:gridCol w="823680"/>
                <a:gridCol w="824040"/>
              </a:tblGrid>
              <a:tr h="192600">
                <a:tc gridSpan="10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do de las unidades 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a8d3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cupa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ulti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u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ulti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m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1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ul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219320" y="5745240"/>
          <a:ext cx="6095880" cy="8078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269640">
                <a:tc gridSpan="10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Estado de resultado de regis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F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F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F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F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F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F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F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F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6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F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Multi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Sum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943634"/>
                          </a:solidFill>
                          <a:latin typeface="Calibri"/>
                          <a:ea typeface="Calibri"/>
                        </a:rPr>
                        <a:t>Divid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686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1 Título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255080" cy="1390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752480"/>
            <a:ext cx="723888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           IS             RF           EX           DF    DS    TC           W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C:\Documents and Settings\Berto\Mis documentos\Trabajos\uno.png"/>
          <p:cNvPicPr/>
          <p:nvPr/>
        </p:nvPicPr>
        <p:blipFill>
          <a:blip r:embed="rId2"/>
          <a:stretch/>
        </p:blipFill>
        <p:spPr>
          <a:xfrm>
            <a:off x="457200" y="1701720"/>
            <a:ext cx="7486560" cy="203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231" name=""/>
          <p:cNvGraphicFramePr/>
          <p:nvPr/>
        </p:nvGraphicFramePr>
        <p:xfrm>
          <a:off x="990720" y="3505320"/>
          <a:ext cx="6095880" cy="1854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c1f34"/>
                          </a:solidFill>
                          <a:latin typeface="Calibri"/>
                        </a:rPr>
                        <a:t>Estados en el MIPS R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de6c36"/>
                      </a:solidFill>
                    </a:lnL>
                    <a:lnR w="5760">
                      <a:solidFill>
                        <a:srgbClr val="de6c36"/>
                      </a:solidFill>
                    </a:lnR>
                    <a:lnT w="5760">
                      <a:solidFill>
                        <a:srgbClr val="de6c36"/>
                      </a:solidFill>
                    </a:lnT>
                    <a:lnB w="5760">
                      <a:solidFill>
                        <a:srgbClr val="de6c36"/>
                      </a:solidFill>
                    </a:lnB>
                    <a:solidFill>
                      <a:srgbClr val="f9eb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c1f34"/>
                          </a:solidFill>
                          <a:latin typeface="Calibri"/>
                        </a:rPr>
                        <a:t>IF  - Instruction 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de6c36"/>
                      </a:solidFill>
                    </a:lnL>
                    <a:lnR w="5760">
                      <a:solidFill>
                        <a:srgbClr val="de6c36"/>
                      </a:solidFill>
                    </a:lnR>
                    <a:lnT w="5760">
                      <a:solidFill>
                        <a:srgbClr val="de6c36"/>
                      </a:solidFill>
                    </a:lnT>
                    <a:lnB w="5760">
                      <a:solidFill>
                        <a:srgbClr val="de6c36"/>
                      </a:solidFill>
                    </a:lnB>
                    <a:solidFill>
                      <a:srgbClr val="f3d4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c1f34"/>
                          </a:solidFill>
                          <a:latin typeface="Calibri"/>
                        </a:rPr>
                        <a:t>IS  - Segunda parte del I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de6c36"/>
                      </a:solidFill>
                    </a:lnL>
                    <a:lnR w="5760">
                      <a:solidFill>
                        <a:srgbClr val="de6c36"/>
                      </a:solidFill>
                    </a:lnR>
                    <a:lnT w="5760">
                      <a:solidFill>
                        <a:srgbClr val="de6c36"/>
                      </a:solidFill>
                    </a:lnT>
                    <a:lnB w="5760">
                      <a:solidFill>
                        <a:srgbClr val="de6c36"/>
                      </a:solidFill>
                    </a:lnB>
                    <a:solidFill>
                      <a:srgbClr val="f3d4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c1f34"/>
                          </a:solidFill>
                          <a:latin typeface="Calibri"/>
                        </a:rPr>
                        <a:t>RF - Register 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de6c36"/>
                      </a:solidFill>
                    </a:lnL>
                    <a:lnR w="5760">
                      <a:solidFill>
                        <a:srgbClr val="de6c36"/>
                      </a:solidFill>
                    </a:lnR>
                    <a:lnT w="5760">
                      <a:solidFill>
                        <a:srgbClr val="de6c36"/>
                      </a:solidFill>
                    </a:lnT>
                    <a:lnB w="5760">
                      <a:solidFill>
                        <a:srgbClr val="de6c36"/>
                      </a:solidFill>
                    </a:lnB>
                    <a:solidFill>
                      <a:srgbClr val="f9eb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c1f34"/>
                          </a:solidFill>
                          <a:latin typeface="Calibri"/>
                        </a:rPr>
                        <a:t>EX - Exec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de6c36"/>
                      </a:solidFill>
                    </a:lnL>
                    <a:lnR w="5760">
                      <a:solidFill>
                        <a:srgbClr val="de6c36"/>
                      </a:solidFill>
                    </a:lnR>
                    <a:lnT w="5760">
                      <a:solidFill>
                        <a:srgbClr val="de6c36"/>
                      </a:solidFill>
                    </a:lnT>
                    <a:lnB w="5760">
                      <a:solidFill>
                        <a:srgbClr val="de6c36"/>
                      </a:solidFill>
                    </a:lnB>
                    <a:solidFill>
                      <a:srgbClr val="f9eb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c1f34"/>
                          </a:solidFill>
                          <a:latin typeface="Calibri"/>
                        </a:rPr>
                        <a:t>DF - Data 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de6c36"/>
                      </a:solidFill>
                    </a:lnL>
                    <a:lnR w="5760">
                      <a:solidFill>
                        <a:srgbClr val="de6c36"/>
                      </a:solidFill>
                    </a:lnR>
                    <a:lnT w="5760">
                      <a:solidFill>
                        <a:srgbClr val="de6c36"/>
                      </a:solidFill>
                    </a:lnT>
                    <a:lnB w="5760">
                      <a:solidFill>
                        <a:srgbClr val="de6c36"/>
                      </a:solidFill>
                    </a:lnB>
                    <a:solidFill>
                      <a:srgbClr val="f3d4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c1f34"/>
                          </a:solidFill>
                          <a:latin typeface="Calibri"/>
                        </a:rPr>
                        <a:t>DS - Segunda parte del 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de6c36"/>
                      </a:solidFill>
                    </a:lnL>
                    <a:lnR w="5760">
                      <a:solidFill>
                        <a:srgbClr val="de6c36"/>
                      </a:solidFill>
                    </a:lnR>
                    <a:lnT w="5760">
                      <a:solidFill>
                        <a:srgbClr val="de6c36"/>
                      </a:solidFill>
                    </a:lnT>
                    <a:lnB w="5760">
                      <a:solidFill>
                        <a:srgbClr val="de6c36"/>
                      </a:solidFill>
                    </a:lnB>
                    <a:solidFill>
                      <a:srgbClr val="f3d4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c1f34"/>
                          </a:solidFill>
                          <a:latin typeface="Calibri"/>
                        </a:rPr>
                        <a:t>TC - Tag check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de6c36"/>
                      </a:solidFill>
                    </a:lnL>
                    <a:lnR w="5760">
                      <a:solidFill>
                        <a:srgbClr val="de6c36"/>
                      </a:solidFill>
                    </a:lnR>
                    <a:lnT w="5760">
                      <a:solidFill>
                        <a:srgbClr val="de6c36"/>
                      </a:solidFill>
                    </a:lnT>
                    <a:lnB w="5760">
                      <a:solidFill>
                        <a:srgbClr val="de6c36"/>
                      </a:solidFill>
                    </a:lnB>
                    <a:solidFill>
                      <a:srgbClr val="f9eb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c1f34"/>
                          </a:solidFill>
                          <a:latin typeface="Calibri"/>
                        </a:rPr>
                        <a:t>WB - Write 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de6c36"/>
                      </a:solidFill>
                    </a:lnL>
                    <a:lnR w="5760">
                      <a:solidFill>
                        <a:srgbClr val="de6c36"/>
                      </a:solidFill>
                    </a:lnR>
                    <a:lnT w="5760">
                      <a:solidFill>
                        <a:srgbClr val="de6c36"/>
                      </a:solidFill>
                    </a:lnT>
                    <a:lnB w="5760">
                      <a:solidFill>
                        <a:srgbClr val="de6c36"/>
                      </a:solidFill>
                    </a:lnB>
                    <a:solidFill>
                      <a:srgbClr val="f9eb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1 Título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255080" cy="1000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4" descr="D:\Personal\dos.png"/>
          <p:cNvPicPr/>
          <p:nvPr/>
        </p:nvPicPr>
        <p:blipFill>
          <a:blip r:embed="rId2"/>
          <a:stretch/>
        </p:blipFill>
        <p:spPr>
          <a:xfrm>
            <a:off x="380880" y="1676520"/>
            <a:ext cx="7365960" cy="495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1 Título" descr=""/>
          <p:cNvPicPr/>
          <p:nvPr/>
        </p:nvPicPr>
        <p:blipFill>
          <a:blip r:embed="rId1"/>
          <a:stretch/>
        </p:blipFill>
        <p:spPr>
          <a:xfrm>
            <a:off x="285840" y="311040"/>
            <a:ext cx="7535880" cy="536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rebuchet MS"/>
              </a:rPr>
              <a:t>3 Unidades funcionales: Divisor, multiplicador y sumador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2590920"/>
          <a:ext cx="6095880" cy="3336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nidad fun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scrip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P adder        (sumad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ma de Manti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P divider      (divis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sor de la tuber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P multiplier (multiplicad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ueba de excep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P multiplier (multiplicad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imer multiplic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P multiplier (multiplicad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gundo multiplic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P adder        (sumad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dond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P adder        (sumad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mbio de operan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empaqueta númer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1 Título" descr=""/>
          <p:cNvPicPr/>
          <p:nvPr/>
        </p:nvPicPr>
        <p:blipFill>
          <a:blip r:embed="rId1"/>
          <a:stretch/>
        </p:blipFill>
        <p:spPr>
          <a:xfrm>
            <a:off x="285840" y="311040"/>
            <a:ext cx="7535880" cy="536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rebuchet MS"/>
              </a:rPr>
              <a:t>Latencias, intervalos y unidades usadas para las operaciones de los números de coma flotante</a:t>
            </a:r>
            <a:endParaRPr b="0" lang="en-US" sz="1700" spc="-1" strike="noStrike">
              <a:solidFill>
                <a:srgbClr val="6c6c6c"/>
              </a:solidFill>
              <a:latin typeface="Trebuchet MS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19320" y="2362320"/>
          <a:ext cx="609588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838440"/>
                <a:gridCol w="2209680"/>
              </a:tblGrid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tru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at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valo d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ici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do de tuberí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mar, res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,S+A,A+R,R+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ultiplic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,E+M,M,M,M,N,N+A,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,A,R,D</a:t>
                      </a:r>
                      <a:r>
                        <a:rPr b="0" lang="es-ES" sz="1100" spc="-1" strike="noStrike" baseline="30000">
                          <a:solidFill>
                            <a:srgbClr val="000000"/>
                          </a:solidFill>
                          <a:latin typeface="Trebuchet MS"/>
                        </a:rPr>
                        <a:t>28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D+A,D+R,D+A,D+R,A,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íz cuadr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,E,(A+R)</a:t>
                      </a:r>
                      <a:r>
                        <a:rPr b="0" lang="es-ES" sz="1100" spc="-1" strike="noStrike" baseline="30000">
                          <a:solidFill>
                            <a:srgbClr val="000000"/>
                          </a:solidFill>
                          <a:latin typeface="Trebuchet MS"/>
                        </a:rPr>
                        <a:t>108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A,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g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,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alor Absolu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,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a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,A,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1 Título" descr=""/>
          <p:cNvPicPr/>
          <p:nvPr/>
        </p:nvPicPr>
        <p:blipFill>
          <a:blip r:embed="rId1"/>
          <a:stretch/>
        </p:blipFill>
        <p:spPr>
          <a:xfrm>
            <a:off x="450720" y="311040"/>
            <a:ext cx="7255080" cy="536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Planificación estática: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ord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 se evitan ni sobrepasa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oca efectividad, menor riesg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Planificación dinámica: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uede ser en desord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ienen riesgos estructurales y de dato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2 estados: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Issue y Read Operand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1 Título" descr=""/>
          <p:cNvPicPr/>
          <p:nvPr/>
        </p:nvPicPr>
        <p:blipFill>
          <a:blip r:embed="rId1"/>
          <a:stretch/>
        </p:blipFill>
        <p:spPr>
          <a:xfrm>
            <a:off x="384120" y="311040"/>
            <a:ext cx="7388280" cy="536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Objetivos y fundamentos.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antener las tasas de ejecución de una instrucción de ciclo por reloj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l marcador responsable de la ejecució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entaja: Múltiples instrucciones en ejecució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550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1 Título" descr=""/>
          <p:cNvPicPr/>
          <p:nvPr/>
        </p:nvPicPr>
        <p:blipFill>
          <a:blip r:embed="rId1"/>
          <a:stretch/>
        </p:blipFill>
        <p:spPr>
          <a:xfrm>
            <a:off x="384120" y="311040"/>
            <a:ext cx="7388280" cy="536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structura básica de MIPS con marcador.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7" name="Picture 3" descr="D:\Personal\tres.png"/>
          <p:cNvPicPr/>
          <p:nvPr/>
        </p:nvPicPr>
        <p:blipFill>
          <a:blip r:embed="rId2"/>
          <a:stretch/>
        </p:blipFill>
        <p:spPr>
          <a:xfrm>
            <a:off x="1828800" y="1600200"/>
            <a:ext cx="4246560" cy="541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1 Título" descr=""/>
          <p:cNvPicPr/>
          <p:nvPr/>
        </p:nvPicPr>
        <p:blipFill>
          <a:blip r:embed="rId1"/>
          <a:stretch/>
        </p:blipFill>
        <p:spPr>
          <a:xfrm>
            <a:off x="384120" y="311040"/>
            <a:ext cx="7388280" cy="536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tapas que sustituyen a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ID, EX y WB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219320" y="2362320"/>
          <a:ext cx="6095880" cy="2722320"/>
        </p:xfrm>
        <a:graphic>
          <a:graphicData uri="http://schemas.openxmlformats.org/drawingml/2006/table">
            <a:tbl>
              <a:tblPr/>
              <a:tblGrid>
                <a:gridCol w="990360"/>
                <a:gridCol w="144792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tap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tap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a8d3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El marcador pondrá en marcha la instrucción a la unidad funcional y actualizará su estructura interna de da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Oper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marcador resuelve riegos RAW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comprueba la disponibilidad de instruc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Ejecuta la instrucción que se debe ejecut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Escribe los resultados en los registros, teniendo en cuenta una serie de riesg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3:12:09Z</dcterms:created>
  <dc:creator>Berto</dc:creator>
  <dc:description/>
  <dc:language>en-US</dc:language>
  <cp:lastModifiedBy>Berto</cp:lastModifiedBy>
  <dcterms:modified xsi:type="dcterms:W3CDTF">2009-04-20T20:33:39Z</dcterms:modified>
  <cp:revision>100</cp:revision>
  <dc:subject/>
  <dc:title>Diapositiva 1</dc:title>
</cp:coreProperties>
</file>